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DA80-5379-4053-92A3-47DBBB68B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FC1B-5181-4794-801F-242B0137E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36C2-C073-4B0C-9A0A-597AF7905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B78B-E8C1-47E4-BBCA-CFA732399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F779-F392-4524-A1FF-103E9EAD1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FD30-39D2-4E67-BCED-585E18083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8C8D-5EDF-4E60-81DF-285A16ABD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38AA-BA91-451D-95C1-CB88A529D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8B58-746C-4A00-8398-9B38AA087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366E-4890-475E-A81B-2D7C30012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3328-8ACA-4B57-B577-67F22B6A7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3E53-F880-4E5F-ACDD-7F3E8E25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C17EA-2353-4D3C-B745-7C1C9D0FC0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19320" y="76320"/>
            <a:ext cx="670536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6T18:00:31Z</dcterms:created>
  <dc:creator>Information Technology</dc:creator>
  <dc:description/>
  <dc:language>en-US</dc:language>
  <cp:lastModifiedBy>Information Technology</cp:lastModifiedBy>
  <dcterms:modified xsi:type="dcterms:W3CDTF">2011-01-06T18:00:54Z</dcterms:modified>
  <cp:revision>1</cp:revision>
  <dc:subject/>
  <dc:title>Slide 1</dc:title>
</cp:coreProperties>
</file>